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新細明體"/>
              </a:rPr>
              <a:t>CHAPTER 6, 8, &amp; 9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5E5D-B26D-43DD-84B6-C3C3D8AAF4CE}" type="slidenum">
              <a:rPr b="0" lang="zh-TW" sz="13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BZhuqPRx9c&amp;list=PL53RS9uBrQCkV7zMHh8OhE2DruJ7l2z0i&amp;index=1" TargetMode="External"/><Relationship Id="rId2" Type="http://schemas.openxmlformats.org/officeDocument/2006/relationships/slide" Target="../slides/slide43.xml"/><Relationship Id="rId3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新細明體"/>
              </a:rPr>
              <a:t>CHAPTER 6, 8, &amp; 9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973D-2CB9-4F22-975F-D36B74208CF1}" type="slidenum">
              <a:rPr b="0" lang="zh-TW" sz="13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304D-3F49-4C5A-A826-8113AFE43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s://influencermarketinghub.com/virtual-reality-market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3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新細明體"/>
              </a:rPr>
              <a:t>CHAPTER 6, 8, &amp; 9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E138-5E2C-4640-8C34-3ABA9E24BC86}" type="slidenum">
              <a:rPr b="0" lang="zh-TW" sz="13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s://influencermarketinghub.com/virtual-reality-market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3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新細明體"/>
              </a:rPr>
              <a:t>CHAPTER 6, 8, &amp; 9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F8DC-FE9D-437C-AB55-A77CD115AF74}" type="slidenum">
              <a:rPr b="0" lang="zh-TW" sz="13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www2.deloitte.com/content/dam/insights/us/articles/4426_Digital-reality-primer/figures/4426_fig1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838C-6C4B-46E7-9B39-8306F34EE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image.slidesharecdn.com/augmentedrealitymarcommtool-140218065234-phpapp01/95/augmented-reality-6-638.jpg?cb=13927065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CE75-85E7-4286-B88C-324C90E04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epochtim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新細明體"/>
              </a:rPr>
              <a:t>CHAPTER 6, 8, &amp; 9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27DC-F291-4CF3-961A-FF018B78FFEC}" type="slidenum">
              <a:rPr b="0" lang="zh-TW" sz="13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'S SESSION, WE WILL TALK ABOUT DIGITAL REALITY TECHNOLOGIES AND IN-GAME ADVERT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BEGIN TODAY'S DISCUSSION BY DISCUSSIN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digital reality advertising platforms (AR, MR, and VR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360-degree video platfor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-game advertising platfor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am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best practices and campaigns using these platform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ssential glossary is related to these two platf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PLEASE NOTE THERE WILL BE A TOTAL OF 2  SUB-ASSIGNMENTS  DUE ON NOVEMBER 4. SO PLEASE BEGIN YOUR STUDY AS EARLY AS YOU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ESITATE TO CONTACT ME IF YOU DO HAVE ANY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新細明體"/>
              </a:rPr>
              <a:t>CHAPTER 6, 8, &amp; 9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EF7C-DFB5-400E-9780-26A391F90D9D}" type="slidenum">
              <a:rPr b="0" lang="zh-TW" sz="13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s://www.stevenpoe.com/360-degree-video-marketing-bringing-value-bran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3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新細明體"/>
              </a:rPr>
              <a:t>CHAPTER 6, 8, &amp; 9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521D-9911-48E6-B61A-58C6FEEC0BBB}" type="slidenum">
              <a:rPr b="0" lang="zh-TW" sz="13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▶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1: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3988-BF98-4A8D-8D50-50D9A9EDA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ow is the full list of 360° video metr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ompletion Rate (% VC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ime Sp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Time Sp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ile Video Compl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agement (VR Headset and Gyroscope movement, Click and dra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-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-map Coverage (% Cover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spots (Interaction) — See more info in hotspots tracking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ion tracking — See more info in the conversion tracking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新細明體"/>
              </a:rPr>
              <a:t>CHAPTER 6, 8, &amp; 9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CAFA-447E-4BC2-BC47-4D14E0FE5D63}" type="slidenum">
              <a:rPr b="0" lang="zh-TW" sz="13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新細明體"/>
              </a:rPr>
              <a:t>CHAPTER 6, 8, &amp; 9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B1C2-F20B-4DDB-A26F-6FC686F86199}" type="slidenum">
              <a:rPr b="0" lang="zh-TW" sz="13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. 1: What is digital reality technology? How are digital reality technologies useful for the advertising indust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. 2: What is in-game advertising? What is gam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. 3: Important glossary related to these two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新細明體"/>
              </a:rPr>
              <a:t>CHAPTER 6, 8, &amp; 9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F9FC-8A06-41A5-AE5E-68700D723B57}" type="slidenum">
              <a:rPr b="0" lang="zh-TW" sz="13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s://www.facebook.com/the8thwall/videos/pepsi-super-bowl-halftime-show-the-weeknd-ar-portal/112649104814744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新細明體"/>
              </a:rPr>
              <a:t>CHAPTER 6, 8, &amp; 9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C092-B21E-49A1-A815-91350C06B379}" type="slidenum">
              <a:rPr b="0" lang="zh-TW" sz="13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新細明體"/>
              </a:rPr>
              <a:t>CHAPTER 6, 8, &amp; 9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8686-D4A8-47EB-891E-D1290314E27C}" type="slidenum">
              <a:rPr b="0" lang="zh-TW" sz="13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ED3-D896-4F50-9A24-998DB6C0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055-38EA-4044-9746-1E4DD8BE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978-1466-457C-ADE2-3C91E416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535-6305-47F0-A6D7-673D9D7D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8E0-3D33-4FA7-8F38-603E4584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A32-7F23-4CCB-9C61-8B43F27F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33D-D9BA-49FF-B755-35AA5CAD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49F-7D9E-49A2-A329-52C4A73F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388-3721-4BC5-987C-E926F75B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412F-CBC3-4261-AE47-EF10C6E0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1FB-9B41-420D-A9BD-8244DA44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69FA-1157-4973-9BF2-3E34ED02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D5B0-9E1D-4A29-815B-BD7946DF9511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2.deloitte.com/insights/us/en/focus/tech-trends/2018/immersive-technologies-digital-reality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influencermarketinghub.com/virtual-reality-marketing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influencermarketinghub.com/virtual-reality-marketing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adobe.com/metaverse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P9Y6CZqc1vI" TargetMode="External"/><Relationship Id="rId2" Type="http://schemas.openxmlformats.org/officeDocument/2006/relationships/hyperlink" Target="file:///WEEK%2010%20OFFLINE%20VIDEOS/MR%20Hololens.mp4" TargetMode="External"/><Relationship Id="rId3" Type="http://schemas.openxmlformats.org/officeDocument/2006/relationships/hyperlink" Target="file:///WEEK%2010%20OFFLINE%20VIDEOS/MR%20Hololens.mp4" TargetMode="External"/><Relationship Id="rId4" Type="http://schemas.openxmlformats.org/officeDocument/2006/relationships/hyperlink" Target="file:///WEEK%2010%20OFFLINE%20VIDEOS/MR%20Hololens.mp4" TargetMode="External"/><Relationship Id="rId5" Type="http://schemas.openxmlformats.org/officeDocument/2006/relationships/hyperlink" Target="file:///WEEK%2010%20OFFLINE%20VIDEOS/MR%20Hololens.mp4" TargetMode="Externa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09vxKN1zLNI" TargetMode="External"/><Relationship Id="rId2" Type="http://schemas.openxmlformats.org/officeDocument/2006/relationships/hyperlink" Target="file:///WEEK%2010%20OFFLINE%20VIDEOS/AR.mp4" TargetMode="External"/><Relationship Id="rId3" Type="http://schemas.openxmlformats.org/officeDocument/2006/relationships/hyperlink" Target="https://www.youtube.com/watch?v=tnRJaHZH9lo" TargetMode="External"/><Relationship Id="rId4" Type="http://schemas.openxmlformats.org/officeDocument/2006/relationships/hyperlink" Target="file:///WEEK%2010%20OFFLINE%20VIDEOS/AR2.mp4" TargetMode="External"/><Relationship Id="rId5" Type="http://schemas.openxmlformats.org/officeDocument/2006/relationships/hyperlink" Target="https://www.youtube.com/watch?v=D0ojxzS1fCw" TargetMode="External"/><Relationship Id="rId6" Type="http://schemas.openxmlformats.org/officeDocument/2006/relationships/hyperlink" Target="file:///WEEK%2010%20OFFLINE%20VIDEOS/AR3.mp4" TargetMode="External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www.iab.com/news/reality-check-ar-vr/" TargetMode="External"/><Relationship Id="rId2" Type="http://schemas.openxmlformats.org/officeDocument/2006/relationships/hyperlink" Target="file:///WEEK%2010%20ARTICLES/IAB_AR_VR.pdf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wKwLBWCKs94" TargetMode="External"/><Relationship Id="rId2" Type="http://schemas.openxmlformats.org/officeDocument/2006/relationships/hyperlink" Target="file:///WEEK%2010%20OFFLINE%20VIDEOS/AR4.mp4" TargetMode="External"/><Relationship Id="rId3" Type="http://schemas.openxmlformats.org/officeDocument/2006/relationships/hyperlink" Target="https://www.youtube.com/watch?v=h2Jg8ryVk1k&amp;t=1s" TargetMode="External"/><Relationship Id="rId4" Type="http://schemas.openxmlformats.org/officeDocument/2006/relationships/hyperlink" Target="file:///WEEK%2010%20OFFLINE%20VIDEOS/AR5.mp4" TargetMode="External"/><Relationship Id="rId5" Type="http://schemas.openxmlformats.org/officeDocument/2006/relationships/hyperlink" Target="https://www.youtube.com/watch?v=Vw1tOavn4hk" TargetMode="External"/><Relationship Id="rId6" Type="http://schemas.openxmlformats.org/officeDocument/2006/relationships/hyperlink" Target="file:///WEEK%2010%20OFFLINE%20VIDEOS/AR6.mp4" TargetMode="External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www.iflexion.com/blog/measure-kpis-vr-marketing-campaigns" TargetMode="External"/><Relationship Id="rId2" Type="http://schemas.openxmlformats.org/officeDocument/2006/relationships/hyperlink" Target="file:///WEEK%2010%20ARTICLES/VR_AR_CAMPAIGN_KPI.pdf" TargetMode="External"/><Relationship Id="rId3" Type="http://schemas.openxmlformats.org/officeDocument/2006/relationships/hyperlink" Target="file:///WEEK%2010%20ARTICLES/VR_AR_GLOSSARY.pdf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WEEK10-1.pdf" TargetMode="External"/><Relationship Id="rId2" Type="http://schemas.openxmlformats.org/officeDocument/2006/relationships/hyperlink" Target="file:///WEEK10-2.pdf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vrglossary.org/" TargetMode="External"/><Relationship Id="rId2" Type="http://schemas.openxmlformats.org/officeDocument/2006/relationships/hyperlink" Target="file:///WEEK%2010%20ARTICLES/VR_GLOSSSARY.pdf" TargetMode="External"/><Relationship Id="rId3" Type="http://schemas.openxmlformats.org/officeDocument/2006/relationships/hyperlink" Target="https://www.iab.com/wp-content/uploads/2018/07/IAB_VR-AR_Glossary_v5b.pdf" TargetMode="External"/><Relationship Id="rId4" Type="http://schemas.openxmlformats.org/officeDocument/2006/relationships/hyperlink" Target="file:///WEEK%2010%20ARTICLES/VR_AR_GLOSSARY.pdf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WEEK%2010%20ASSIGNMENTS/AS9-1.docx" TargetMode="External"/><Relationship Id="rId2" Type="http://schemas.openxmlformats.org/officeDocument/2006/relationships/hyperlink" Target="file:///WEEK%2010%20ASSIGNMENTS/AS9-1.docx" TargetMode="External"/><Relationship Id="rId3" Type="http://schemas.openxmlformats.org/officeDocument/2006/relationships/hyperlink" Target="file:///WEEK%2010%20ASSIGNMENTS/AS9-1.docx" TargetMode="Externa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s://youtu.be/bCcvEVyAXQ0" TargetMode="External"/><Relationship Id="rId2" Type="http://schemas.openxmlformats.org/officeDocument/2006/relationships/hyperlink" Target="file:///WEEK%2010%20OFFLINE%20VIDEOS/ARZurich%20UBER.mp4" TargetMode="External"/><Relationship Id="rId3" Type="http://schemas.openxmlformats.org/officeDocument/2006/relationships/hyperlink" Target="http://www.3rockar.com/" TargetMode="External"/><Relationship Id="rId4" Type="http://schemas.openxmlformats.org/officeDocument/2006/relationships/hyperlink" Target="https://youtu.be/4Fkjt3Ctx-I" TargetMode="External"/><Relationship Id="rId5" Type="http://schemas.openxmlformats.org/officeDocument/2006/relationships/image" Target="../media/image10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techcrunch.com/2018/07/10/facebook-ar-ads/?mc_cid=a10bf2da85&amp;mc_eid=6fcf4f3379" TargetMode="External"/><Relationship Id="rId2" Type="http://schemas.openxmlformats.org/officeDocument/2006/relationships/hyperlink" Target="file:///WEEK%2010%20ARTICLES/Facebook_AR.pd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Wmdkhmuh-zU" TargetMode="External"/><Relationship Id="rId2" Type="http://schemas.openxmlformats.org/officeDocument/2006/relationships/hyperlink" Target="file:///WEEK%2010%20OFFLINE%20VIDEOS/V360_TSUNAMI.mp4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s://youtu.be/ZvZ7da8JBUk" TargetMode="External"/><Relationship Id="rId2" Type="http://schemas.openxmlformats.org/officeDocument/2006/relationships/hyperlink" Target="file:///WEEK%2010%20OFFLINE%20VIDEOS/V360_ROLLER_COASTER.mp4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360-degree_video" TargetMode="External"/><Relationship Id="rId2" Type="http://schemas.openxmlformats.org/officeDocument/2006/relationships/hyperlink" Target="https://youtu.be/RoJ5ANc8-p0" TargetMode="External"/><Relationship Id="rId3" Type="http://schemas.openxmlformats.org/officeDocument/2006/relationships/hyperlink" Target="file:///WEEK%2010%20OFFLINE%20VIDEOS/V3601.mp4" TargetMode="Externa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s://www.stevenpoe.com/360-degree-video-marketing-bringing-value-brand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S_hpD7teoow" TargetMode="External"/><Relationship Id="rId2" Type="http://schemas.openxmlformats.org/officeDocument/2006/relationships/hyperlink" Target="file:///WEEK%2010%20OFFLINE%20VIDEOS/V360_Lipton.mp4" TargetMode="External"/><Relationship Id="rId3" Type="http://schemas.openxmlformats.org/officeDocument/2006/relationships/hyperlink" Target="file:///WEEK%2010%20OFFLINE%20VIDEOS/V360_Lipton.mp4" TargetMode="External"/><Relationship Id="rId4" Type="http://schemas.openxmlformats.org/officeDocument/2006/relationships/hyperlink" Target="https://www.youtube.com/watch?v=TFRwWpNFxWE&amp;index=4&amp;list=PL53RS9uBrQCkV7zMHh8OhE2DruJ7l2z0i" TargetMode="External"/><Relationship Id="rId5" Type="http://schemas.openxmlformats.org/officeDocument/2006/relationships/hyperlink" Target="file:///WEEK%2010%20OFFLINE%20VIDEOS/V360_terminator.mp4" TargetMode="External"/><Relationship Id="rId6" Type="http://schemas.openxmlformats.org/officeDocument/2006/relationships/hyperlink" Target="file:///WEEK%2010%20OFFLINE%20VIDEOS/V360_terminator.mp4" TargetMode="External"/><Relationship Id="rId7" Type="http://schemas.openxmlformats.org/officeDocument/2006/relationships/hyperlink" Target="https://www.youtube.com/watch?v=bBZhuqPRx9c&amp;list=PL53RS9uBrQCkV7zMHh8OhE2DruJ7l2z0i&amp;index=1" TargetMode="External"/><Relationship Id="rId8" Type="http://schemas.openxmlformats.org/officeDocument/2006/relationships/hyperlink" Target="file:///WEEK%2010%20OFFLINE%20VIDEOS/V360video_Nike.mp4" TargetMode="External"/><Relationship Id="rId9" Type="http://schemas.openxmlformats.org/officeDocument/2006/relationships/hyperlink" Target="file:///WEEK%2010%20OFFLINE%20VIDEOS/V360video_Nike.mp4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s://medium.com/omnivirt/360-video-vr-performance-statistics-from-1000-campaigns-2f7343ecfe13" TargetMode="External"/><Relationship Id="rId2" Type="http://schemas.openxmlformats.org/officeDocument/2006/relationships/hyperlink" Target="file:///WEEK%2010%20ARTICLES/V360_METRICS.pdf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vimeo.com/blog/post/terms-you-need-to-know-to-create-360-video/" TargetMode="External"/><Relationship Id="rId2" Type="http://schemas.openxmlformats.org/officeDocument/2006/relationships/hyperlink" Target="file:///WEEK%2010%20ARTICLES/360_DEGREE_VIDEO_GLOSSARY.pdf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In-game_advertising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Dqr4hyvmDvs" TargetMode="External"/><Relationship Id="rId2" Type="http://schemas.openxmlformats.org/officeDocument/2006/relationships/hyperlink" Target="https://www.youtube.com/watch?v=Dqr4hyvmDvs" TargetMode="External"/><Relationship Id="rId3" Type="http://schemas.openxmlformats.org/officeDocument/2006/relationships/hyperlink" Target="file:///WEEK%2010%20OFFLINE%20VIDEOS/In-Game%20AdsTammyLevy.mp4" TargetMode="External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s://www.rapidfire.com/blog/the-three-types-of-in-game-advertising/" TargetMode="External"/><Relationship Id="rId2" Type="http://schemas.openxmlformats.org/officeDocument/2006/relationships/hyperlink" Target="file:///WEEK%2010%20ARTICLES/IGA_3TYPES.pdf" TargetMode="External"/><Relationship Id="rId3" Type="http://schemas.openxmlformats.org/officeDocument/2006/relationships/hyperlink" Target="https://www.youtube.com/watch?v=2_ivC9lW688" TargetMode="External"/><Relationship Id="rId4" Type="http://schemas.openxmlformats.org/officeDocument/2006/relationships/hyperlink" Target="file:///WEEK%2010%20OFFLINE%20VIDEOS/15%20IGA.mp4" TargetMode="External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time_continue=13&amp;v=fm8a5RYGFVo" TargetMode="External"/><Relationship Id="rId2" Type="http://schemas.openxmlformats.org/officeDocument/2006/relationships/hyperlink" Target="file:///WEEK%2010%20OFFLINE%20VIDEOS/Gamification_DEFINITION.mp4" TargetMode="External"/><Relationship Id="rId3" Type="http://schemas.openxmlformats.org/officeDocument/2006/relationships/hyperlink" Target="file:///WEEK%2010%20OFFLINE%20VIDEOS/Gamification_DEFINITION.mp4" TargetMode="External"/><Relationship Id="rId4" Type="http://schemas.openxmlformats.org/officeDocument/2006/relationships/hyperlink" Target="file:///WEEK%2010%20OFFLINE%20VIDEOS/Gamification_DEFINITION.mp4" TargetMode="External"/><Relationship Id="rId5" Type="http://schemas.openxmlformats.org/officeDocument/2006/relationships/hyperlink" Target="file:///WEEK%2010%20OFFLINE%20VIDEOS/Gamification_DEFINITION.mp4" TargetMode="Externa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CFeeSANGGlA" TargetMode="External"/><Relationship Id="rId2" Type="http://schemas.openxmlformats.org/officeDocument/2006/relationships/hyperlink" Target="file:///WEEK%2010%20OFFLINE%20VIDEOS/Top10gamification.mp4" TargetMode="External"/><Relationship Id="rId3" Type="http://schemas.openxmlformats.org/officeDocument/2006/relationships/hyperlink" Target="file:///WEEK%2010%20OFFLINE%20VIDEOS/Top10gamification.mp4" TargetMode="Externa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VEMBER 24, 20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MEDIA ADVER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m refers to “an amalgamation of augmented reality (AR), virtual reality (VR), mixed reality, 360°, and immersive technologies”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ING OF DIGITAL REALITY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1066680"/>
            <a:ext cx="777240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EMBER THAT THE OMNI-CHANNEL MARKETING APPROACH WE TALKED ABOUT EARLIE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XT SLIDE WILL SHOW HOW DIGITAL REALITY PLATFORMS ARE USED WITH OTHER NEW MEDIA PLATFORM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3429000"/>
            <a:ext cx="777240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WE ARE NEAR THE END OF THIS COURSE, YOU MAY HAVE NOTED THAT ADVERTISERS ARE INTEGRATING VARIOUS PLATFORMS IN THEIR CAMPAIGN TO OPTIMIZE CONSUMER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22560" y="914040"/>
            <a:ext cx="4572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920" y="1600200"/>
            <a:ext cx="358128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search report by ResearchandMarkets.com (2018) predicts that the global revenue for both augmented reality (henceforth, AR) and virtual reality (henceforth, VR) applications will reach $94.4 billion by 20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886200" y="1724040"/>
            <a:ext cx="47052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GROWTH TREND CONTINUES ACCORDING TO MORE RECE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s://influencermarketinghub.com/wp-content/uploads/2022/04/IMAGE-1-1.png"/>
          <p:cNvPicPr/>
          <p:nvPr/>
        </p:nvPicPr>
        <p:blipFill>
          <a:blip r:embed="rId2"/>
          <a:stretch/>
        </p:blipFill>
        <p:spPr>
          <a:xfrm>
            <a:off x="422280" y="533520"/>
            <a:ext cx="8259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240" y="1600200"/>
            <a:ext cx="242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 can enhance consumer experiences by telling an engaging brand s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VR Businesses Grow"/>
          <p:cNvPicPr/>
          <p:nvPr/>
        </p:nvPicPr>
        <p:blipFill>
          <a:blip r:embed="rId2"/>
          <a:stretch/>
        </p:blipFill>
        <p:spPr>
          <a:xfrm>
            <a:off x="2657520" y="0"/>
            <a:ext cx="648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29528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mented reality (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ys digitally created content into the user’s real-world environment. Features include transparent optics and a viewable environment in which users are aware of their surroundings and themselves” (Deloitte Insigh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reality (VR)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a fully rendered digital environment that replaces the user’s real-world environment. Features body- and motion-tracking capabilities.” (Deloitte Insigh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, MR, AND VR: THE VIRTUALITY C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29528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FIGURE SHOWS THE DIGITAL REALITY C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mobilemondayptbo.ca/resources/Reality_Continuum.png?timestamp=1463086748996"/>
          <p:cNvPicPr/>
          <p:nvPr/>
        </p:nvPicPr>
        <p:blipFill>
          <a:blip r:embed="rId1"/>
          <a:stretch/>
        </p:blipFill>
        <p:spPr>
          <a:xfrm>
            <a:off x="9360" y="1290600"/>
            <a:ext cx="8831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ontent Placeholder 3" descr=""/>
          <p:cNvPicPr/>
          <p:nvPr/>
        </p:nvPicPr>
        <p:blipFill>
          <a:blip r:embed="rId1"/>
          <a:stretch/>
        </p:blipFill>
        <p:spPr>
          <a:xfrm>
            <a:off x="533520" y="2066760"/>
            <a:ext cx="8076960" cy="4240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ITAL REALITY IS A RECENT TECH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: DIGITAL REALITY AND  IN-GAME 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VERSE AND IMMERSIVE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560" y="1417680"/>
            <a:ext cx="31748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ead more about Metaverse and watch the video (3:1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watch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ithsoni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n &amp; Jer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a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s://tse4.mm.bing.net/th?id=OIP.J60pHr-TtAVpxlaouCHePgHaEC&amp;pid=Api&amp;P=0"/>
          <p:cNvPicPr/>
          <p:nvPr/>
        </p:nvPicPr>
        <p:blipFill>
          <a:blip r:embed="rId2"/>
          <a:stretch/>
        </p:blipFill>
        <p:spPr>
          <a:xfrm>
            <a:off x="3479760" y="1600200"/>
            <a:ext cx="5040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DIFFERENT TYPES OF DIGITAL REALITY TECHNOLOG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s://www2.deloitte.com/content/dam/insights/us/articles/4426_Digital-reality-primer/figures/4426_fig1.png"/>
          <p:cNvPicPr/>
          <p:nvPr/>
        </p:nvPicPr>
        <p:blipFill>
          <a:blip r:embed="rId2"/>
          <a:stretch/>
        </p:blipFill>
        <p:spPr>
          <a:xfrm>
            <a:off x="0" y="4680"/>
            <a:ext cx="9144000" cy="70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41148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R, AS A TECHNOLOGY, IS STILL IN ITS INFANCY. CLIC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WATCH THE VIDEO ON MR APPLICATIONS [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IN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IDE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22560" y="914040"/>
            <a:ext cx="4764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038120"/>
            <a:ext cx="7772400" cy="17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IS SECTION, WE WILL FOCUS ON AR- A POPULAR PLATFORM DUE TO THE AVAILABILITY OF THE SMART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5248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atch the video on “Augmented reality. What is augmented reality?” (5:33) [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FLINE VIDE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atch the video on “The Future of Augmented Reality” (3:25) [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FFLINE VIDE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atch the video on “Live Augmented Reality-National Geographic” campaign (3:00) [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OFFLINE VIDE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AUGMENTED REALITY ADVERTI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stated in IAB’s report (2018), AR advertising “allows for the near-seamless integration of other advertising channels into an interactive ad campaign and allows for the transformation of previously non-interactive media (video, print, or even the presence of a branded product) into highly interactive media through AR activ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read the IAB article [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FLINE VER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S OF AR/VR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watch the video on some examples of augmented reality ads, “Augmented reality shoe advertisement in an magazine” [</a:t>
            </a: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FLINE VIDE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e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watch the video on “Coca-Cola and WWF help conserve the Arctic Home - Augmented Reality” campaign (1:41) [</a:t>
            </a: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FFLINE VIDE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e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watch the video, “What makes a successful AR campaign?” (4:21) [</a:t>
            </a: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ONLINE VIDE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T PRACTICE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481040"/>
            <a:ext cx="231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 campaigns can be assessed using the metrics in this slide. Make sure you are familiar with these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ASSESS AR CAMPAIGN EFFECTIVE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s://image.slidesharecdn.com/augmentedrealitymarcommtool-140218065234-phpapp01/95/augmented-reality-6-638.jpg?cb=1392706573"/>
          <p:cNvPicPr/>
          <p:nvPr/>
        </p:nvPicPr>
        <p:blipFill>
          <a:blip r:embed="rId2"/>
          <a:stretch/>
        </p:blipFill>
        <p:spPr>
          <a:xfrm>
            <a:off x="2774880" y="1568520"/>
            <a:ext cx="591192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EFFECTIVENESS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more about how to measure AR VR campaign KPI [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FLINE VER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read p. 23 (metr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Video Performance KPIs Adaptable for VR"/>
          <p:cNvPicPr/>
          <p:nvPr/>
        </p:nvPicPr>
        <p:blipFill>
          <a:blip r:embed="rId4"/>
          <a:stretch/>
        </p:blipFill>
        <p:spPr>
          <a:xfrm>
            <a:off x="914400" y="3911760"/>
            <a:ext cx="64389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9280" y="533160"/>
            <a:ext cx="824544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ING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9212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omplete all reading assignments before attending November 24 clas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Course Packet WEEK 10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 WEE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0-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0-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[Click the links to open the PDF files, or find them in your weekly course folde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7315200" y="4968720"/>
            <a:ext cx="122724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learn VR glossary [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FLINE VER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cess the authoritative AR/VR glossary and metrics from IAB [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FFLINE VER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ontent Placeholder 4" descr="https://tse3.mm.bing.net/th?id=OIP.2ertDpXeGb69EpBGTzeg9wHaE5&amp;pid=15.1&amp;P=0&amp;w=243&amp;h=161"/>
          <p:cNvPicPr/>
          <p:nvPr/>
        </p:nvPicPr>
        <p:blipFill>
          <a:blip r:embed="rId5"/>
          <a:stretch/>
        </p:blipFill>
        <p:spPr>
          <a:xfrm>
            <a:off x="5181480" y="1609560"/>
            <a:ext cx="342108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33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USE A BIT TO REFLECT ON WHAT YOU HAVE LEARNED. WRITE DOWN ANY QUESTIONS OR CONCERNS IN A SEPARATE PIECE OF PAP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49280" y="5029200"/>
            <a:ext cx="8245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1483920"/>
            <a:ext cx="6858000" cy="20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ILL ASK YOU TO COMPLETE THE FOLLOWING ASSIGNMENT TO ENSURE THAT YOU HAVE LEARNED THE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9-1 (20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48920" y="1596600"/>
            <a:ext cx="838980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ccess the AS9-1 for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48104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watch this augmented reality (AR) campaign at Zurich Main Railway Station (2017) [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FLINE VID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mpaign was created by world’s leading Augmented reality company,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3rockA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lick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watch the vide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040" y="1481040"/>
            <a:ext cx="4343400" cy="4525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BER AR CAMPAIGN AT ZU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6"/>
          <a:stretch/>
        </p:blipFill>
        <p:spPr>
          <a:xfrm>
            <a:off x="4343400" y="2286000"/>
            <a:ext cx="4373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6840" y="1481040"/>
            <a:ext cx="350532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read the article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FLINE VE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ebook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allows advertisers to demonstrate their products, with augmented reality—an example of how two platforms work together to create consumer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EBOOK &amp; ITS A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michael kors AR"/>
          <p:cNvPicPr/>
          <p:nvPr/>
        </p:nvPicPr>
        <p:blipFill>
          <a:blip r:embed="rId4"/>
          <a:stretch/>
        </p:blipFill>
        <p:spPr>
          <a:xfrm>
            <a:off x="3998880" y="2057400"/>
            <a:ext cx="4572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9-1 (20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48920" y="1596600"/>
            <a:ext cx="838980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either the Uber or Facebook campaign to answer the follow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1: Do you think the selected campaign makes the ad experience engaging, fun, and immersive? Explain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2: What effectiveness metrics (from Slides 29-30) can be used to measure the campaign effectiveness? What are they? Define each metric that you have ident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ILL CONTINUE TO TALK ABOUT OTHER DIGITAL REALITY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NOTHER DIGITAL REALITY TECHNOLOGY THAT HAS GAINED POPULARITY RECENTLY IS THE 360-DEGREE VIDE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0400" y="2590560"/>
            <a:ext cx="52941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es it mean by this term? See the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https://tse2.mm.bing.net/th?id=OIP.kfYhJorUdkE1XnrDmIx0QwHaD8&amp;pid=15.1&amp;P=0&amp;w=391&amp;h=209"/>
          <p:cNvPicPr/>
          <p:nvPr/>
        </p:nvPicPr>
        <p:blipFill>
          <a:blip r:embed="rId1"/>
          <a:stretch/>
        </p:blipFill>
        <p:spPr>
          <a:xfrm>
            <a:off x="3922560" y="3733920"/>
            <a:ext cx="410544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19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THER POPULAR APPLICATION IN THE 360-DEGREE VIDEO (CLIC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 PLEASE MAKE SURE YOU INTERACT WITH THE VIDEO [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FLINE VIDE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549360"/>
            <a:ext cx="8077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YOU LEARN IN THIS S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4200" y="159984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digital reality advertising platforms (AR, MR, and VR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360-degree video plat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in-game advertising plat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gamif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best practices and campaigns using thes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WOULD LIKE, CLIC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WATCH ANOTHER 360-DEGREE VIDEO [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FLINE VIDE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s “360-degree videos, also known as immersive videos or spherical videos, are video recordings where a view in every direction is recorded at the same time, shot using an omnidirectional camera or a collection of cameras”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pe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atch the video, “What is 360-Degree Video” (6:19) [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NLINE VIDE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360-DEGREE VIDE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3886200"/>
            <a:ext cx="77724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LEARN MORE ABOUT WHAT THE 360-DEGREE VIDEOS CAN DO FOR MARK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 rot="10800000">
            <a:off x="3199680" y="6400800"/>
            <a:ext cx="52578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how these campaigns are different from traditional video 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watch Lipton’s “60° Video New Lipton Magnificent Matcha Tea Takes You Inside the Cup” (2016) (1:30) [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FLINE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ID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e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watch “Terminator Genisys: The YouTube Chronicles in 360” (2:57) [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FFLINE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VID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e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watch “Nike Hypervenom II The Neymar Jr. Effec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:35) [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FFLINE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VID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0-DEGREE VIDEO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360-DEGREE VIDEOS CAN BE USED WITH VR TO CREATE A STRONG SENSE OF IMMERSION AND ENGAG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0 DEGREE VIDEO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339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learn the effectiveness metrics of the 360- degree video [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FLINE VER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https://miro.medium.com/max/1400/1*Ru0goJqbMfPkle12xk6fJg.png"/>
          <p:cNvPicPr/>
          <p:nvPr/>
        </p:nvPicPr>
        <p:blipFill>
          <a:blip r:embed="rId3"/>
          <a:stretch/>
        </p:blipFill>
        <p:spPr>
          <a:xfrm>
            <a:off x="3849840" y="1905120"/>
            <a:ext cx="4749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learn more about the 360- degree video glossary [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FLINE VER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https://tse4.mm.bing.net/th?id=OIP.J5vt3NbzJwQWcqhbFTz6KQHaCj&amp;pid=Api&amp;P=0"/>
          <p:cNvPicPr/>
          <p:nvPr/>
        </p:nvPicPr>
        <p:blipFill>
          <a:blip r:embed="rId3"/>
          <a:stretch/>
        </p:blipFill>
        <p:spPr>
          <a:xfrm>
            <a:off x="482760" y="3124080"/>
            <a:ext cx="7976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. 2: WHAT IS IN-GAME ADVERTISING? WHAT IS GAMIFICATION? RELATED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16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ILL CONCLUDE TODAY’S SECTION BY INTRODUCING THE IN-GAME ADVER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N-GAME ADVERTI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URSE SLIDES WILL BE DIVIDED INTO THE FOLLOWING TOPICAL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2361960"/>
            <a:ext cx="7848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. 1: What is digital reality technology? How are digital reality technologies useful for the advertising industry? Relate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. 2: What is in-game advertising? What is gamification? Relate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as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-game adverti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G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refers to advertising in computer and video games. IGA differs from advergaming, which refers to a game specifically made to advertise a product”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ped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N-GAME ADVERTI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atch the video, “Successful In-Game Ads: The Secret Sauce for Monetization” (21:30) [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FFLINE VIDE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deo talks about ad types, metrics to measure in-game ad campaigns, monetization strategies, actual campaign exampl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-GAME 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read the article on the types of IGA [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FLINE VER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In-Game Advertising (aka DI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In-Game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atch video, “15 Weird, Funny, And Shameless Product Placements In Video Games” (6:04) [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FFLINE VIDE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IN-GAME 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GAMIF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ED TO THE POPULARITY OF DIGITAL GAME AS A PLATFORM IS GAMIFICATION THAT PRESENTS CHALLENGES TO CONSUMERS FOR POSSIBLE RE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WATCH “DEFINITION OF GAMIFICATION” (12:32) [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IN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IDE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mification is not just used in advertising. The technique has been used in education, military recruiting, and many other areas to engage consumers through fun and task-comple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watch the video, “Top 10 gamification examples and fun theory” (6:34) [</a:t>
            </a: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FLINE </a:t>
            </a: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IDE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here to watch the video, “Gamification Ads: Interactive Gaming Ad - NIVEA for MEN” (1:00) [OFFLINE VIDEO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MIFICATION IN 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-GAME ADVERTISING METRICS &amp; GLO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read IAB’s in-game advertising metrics (pp. 6-13) and glossary (pp. 4-6) [OFFLINE VERSIO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read more updated metrics in 2022 [OFFLINE VERSIO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33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USE A BIT TO REFLECT ON WHAT YOU HAVE LEARNED. WRITE DOWN ANY QUESTIONS OR CONCERNS IN A SEPARATE PIECE OF PAPER THAT YOU WILL BRING TO OUR FACE TO FACE CLASS TO DISC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49280" y="5029200"/>
            <a:ext cx="8245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1483920"/>
            <a:ext cx="6858000" cy="20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ILL ASK YOU TO COMPLETE THE FOLLOWING ASSIGNMENT TO ENSURE THAT YOU HAVE LEARNED THE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586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LEASE STO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43000" y="39625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HAVE COMPLETED THE SELF-LEARNING MODULE BY COMPLETING THE READING ASSIGNMENTS. YOU ARE NOT REQUIRED TO READ THE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72200" y="563400"/>
            <a:ext cx="24638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FAR, YOU HAVE LEARNED HOW DIGITAL REALITY TECHNOLOGIES CAN CREATE A SENSE OF IMM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HERE TO READ AND WATCH SOME OF THE CAMPAIGNS [OFFLINE VERS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9-2 (20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here to access the AS9-2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atch Pepsi’s halftime AR show campaign [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FFLINE VIDE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ead more about this campaign [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FFLINE VER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 following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1: What would be metrics based on what you have learned about (effectiveness) metrics? Please identify and define 2 metr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&amp;A TO SUM UP WHAT YOU HAVE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igital reality technolo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digital reality technologies useful for the advertising indus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n-game adverti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gamif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glossary related to these two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OF KEY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reality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mented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0-degree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game advert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VING YOUR CLIENT’S PROBLEMS WITH A VR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9-4 (30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49280" y="1596600"/>
            <a:ext cx="78566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access the AS9-4 for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#1: Click here to set up your group’s InstaVR account by clicking TRY NOW. Insert your accoun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reenshot  (DO NOT PAY FOR THE TRIAL/ACC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#2: After you watch the tutorial video, learn how to create your own VR campaign project using AUTHORING. Insert your screenshot to demonstrate you have created a project (or click here to watch the video) (online) [3:00] (Click here to watch a more informative 9:00 video and click here for De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9-4 (30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49280" y="1596600"/>
            <a:ext cx="78566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#3: Create a package that you can publish on the Web, and then download the package that can be opened as a host page. Insert the QR code in your AS9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463680" y="3505320"/>
            <a:ext cx="8277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533520"/>
            <a:ext cx="783756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9-3 (10 P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48920" y="1596600"/>
            <a:ext cx="838980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 to access the AS9-3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you leave today’s session, make sure you are comfortable with the following terms, keywords, concepts, or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load your write-up as a group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SEEK HE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49360"/>
            <a:ext cx="8077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YOU LEARN IN THIS S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83840" y="1905120"/>
            <a:ext cx="782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. 1: What is digital reality technology? How are digital reality technologies useful for the advertising industry? Relate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. 2: What is in-game advertising? What is gamification? Relate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47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SEEK HEL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virtual office hour sessions to better assist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Virtual Office Hours on Thursdays: 9:00 am to 4:00 pm (via email </a:t>
            </a:r>
            <a:r>
              <a:rPr b="0" lang="en-US" sz="2200" spc="-1" strike="noStrike" u="sng">
                <a:solidFill>
                  <a:srgbClr val="0563c1"/>
                </a:solidFill>
                <a:uFillTx/>
                <a:latin typeface="Arial"/>
                <a:ea typeface="新細明體"/>
              </a:rPr>
              <a:t>252201@mail.muni.cz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바탕"/>
              </a:rPr>
              <a:t>Email consultation is also welcome. Face-to-face or Zoom consultations are upon request and TB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ail Dr. Yang at </a:t>
            </a:r>
            <a:r>
              <a:rPr b="0" lang="en-US" sz="2600" spc="-1" strike="noStrike" u="sng">
                <a:solidFill>
                  <a:srgbClr val="0563c1"/>
                </a:solidFill>
                <a:uFillTx/>
                <a:latin typeface="Arial"/>
                <a:ea typeface="新細明體"/>
              </a:rPr>
              <a:t>252201@mail.muni.c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time to receive immediate assi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kype, Zoom, or Phone Call-Out option can also be arranged if you prefer a face-to-face consultation, please email Dr. Yang at </a:t>
            </a:r>
            <a:r>
              <a:rPr b="0" lang="en-US" sz="2600" spc="-1" strike="noStrike" u="sng">
                <a:solidFill>
                  <a:srgbClr val="0563c1"/>
                </a:solidFill>
                <a:uFillTx/>
                <a:latin typeface="Arial"/>
                <a:ea typeface="新細明體"/>
              </a:rPr>
              <a:t>252201@mail.muni.c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et up an appoin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. 1: WHAT IS DIGITAL REALITY TECHNOLOGY? HOW ARE DIGITAL REALITY TECHNOLOGIES USEFUL FOR THE ADVERTISING INDUSTRY? RELATED METRICS</a:t>
            </a:r>
            <a:br>
              <a:rPr sz="28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6:14:56Z</dcterms:created>
  <dc:creator>Elizabeth</dc:creator>
  <dc:description/>
  <dc:language>en-US</dc:language>
  <cp:lastModifiedBy>Yang, Kenneth C. C.</cp:lastModifiedBy>
  <cp:lastPrinted>2014-08-19T21:51:15Z</cp:lastPrinted>
  <dcterms:modified xsi:type="dcterms:W3CDTF">2023-10-03T11:56:35Z</dcterms:modified>
  <cp:revision>804</cp:revision>
  <dc:subject/>
  <dc:title>Creating Effective and Creative Advertising Messa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b73649dc-6fee-4eb8-a128-734c3c842ea8_ActionId">
    <vt:lpwstr>fcecddff-49a3-4146-855c-a8e128f20009</vt:lpwstr>
  </property>
  <property fmtid="{D5CDD505-2E9C-101B-9397-08002B2CF9AE}" pid="3" name="MSIP_Label_b73649dc-6fee-4eb8-a128-734c3c842ea8_ContentBits">
    <vt:lpwstr>0</vt:lpwstr>
  </property>
  <property fmtid="{D5CDD505-2E9C-101B-9397-08002B2CF9AE}" pid="4" name="MSIP_Label_b73649dc-6fee-4eb8-a128-734c3c842ea8_Enabled">
    <vt:lpwstr>true</vt:lpwstr>
  </property>
  <property fmtid="{D5CDD505-2E9C-101B-9397-08002B2CF9AE}" pid="5" name="MSIP_Label_b73649dc-6fee-4eb8-a128-734c3c842ea8_Method">
    <vt:lpwstr>Standard</vt:lpwstr>
  </property>
  <property fmtid="{D5CDD505-2E9C-101B-9397-08002B2CF9AE}" pid="6" name="MSIP_Label_b73649dc-6fee-4eb8-a128-734c3c842ea8_Name">
    <vt:lpwstr>defa4170-0d19-0005-0004-bc88714345d2</vt:lpwstr>
  </property>
  <property fmtid="{D5CDD505-2E9C-101B-9397-08002B2CF9AE}" pid="7" name="MSIP_Label_b73649dc-6fee-4eb8-a128-734c3c842ea8_SetDate">
    <vt:lpwstr>2023-07-17T23:29:09Z</vt:lpwstr>
  </property>
  <property fmtid="{D5CDD505-2E9C-101B-9397-08002B2CF9AE}" pid="8" name="MSIP_Label_b73649dc-6fee-4eb8-a128-734c3c842ea8_SiteId">
    <vt:lpwstr>857c21d2-1a16-43a4-90cf-d57f3fab9d2f</vt:lpwstr>
  </property>
</Properties>
</file>